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11D-68D2-42A3-8F34-B4F67B20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A04-CDB0-4025-A1C2-92CD13E0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122-0788-4BF6-B569-176E75DB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298-94AB-4F72-9A6E-3EC1C45A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E694-0E19-4735-9F08-877C3989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E07-90C4-4CDE-8ABD-DD7553D8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276C-E6E5-40DE-B2CC-F95B9DB6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B2B3-E0C7-49E9-8E7C-5DF0A739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ED45-9F68-49A3-A113-D6C2EA74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E734-13BD-4C33-B1A3-FF2F7DD9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3AE5-6E18-476B-9141-F934553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0F3-E1DE-4BAE-B9F7-29B84A42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07C8-B9C8-4FCB-82EC-6DED326B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D0E3-F1D4-417D-9D31-E5249B6C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EB81-E023-4617-8364-E8BF775D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FCB3-C0AA-41A0-BFA1-2F711CC2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47A4-60C4-4A88-B1FA-D8EEF6EA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D80-8A6C-44C5-8B7F-A72BA97F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463-7D95-44B1-8A1F-EB184DD6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F05-0519-4D85-96E5-D4507C99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43F-3DA3-40BD-BD24-F493DBB3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44B-EA26-4E43-A75F-65D37446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7BF-A4E0-48DA-A35E-24072A8A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911-95E6-4D72-842D-52028B4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6A66-4365-460A-AA86-36C476697B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7260-21CD-4483-9AF2-3DEA3BA648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lime_Time_Live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nuggle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nry and Mudge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d the Starry N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ocabulary and Amazing 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ond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dli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imals and plants that live wild outdoo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4" descr="MCj04247060000[1]"/>
          <p:cNvPicPr/>
          <p:nvPr/>
        </p:nvPicPr>
        <p:blipFill>
          <a:blip r:embed="rId1"/>
          <a:stretch/>
        </p:blipFill>
        <p:spPr>
          <a:xfrm>
            <a:off x="838080" y="2971800"/>
            <a:ext cx="1863720" cy="151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Cj04260440000[1]"/>
          <p:cNvPicPr/>
          <p:nvPr/>
        </p:nvPicPr>
        <p:blipFill>
          <a:blip r:embed="rId2"/>
          <a:stretch/>
        </p:blipFill>
        <p:spPr>
          <a:xfrm>
            <a:off x="3637080" y="2881440"/>
            <a:ext cx="1869840" cy="109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Cj04283730000[1]"/>
          <p:cNvPicPr/>
          <p:nvPr/>
        </p:nvPicPr>
        <p:blipFill>
          <a:blip r:embed="rId3"/>
          <a:stretch/>
        </p:blipFill>
        <p:spPr>
          <a:xfrm>
            <a:off x="6934320" y="2895480"/>
            <a:ext cx="1692000" cy="182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Cj04241300000[1]"/>
          <p:cNvPicPr/>
          <p:nvPr/>
        </p:nvPicPr>
        <p:blipFill>
          <a:blip r:embed="rId4"/>
          <a:stretch/>
        </p:blipFill>
        <p:spPr>
          <a:xfrm>
            <a:off x="1828800" y="4724280"/>
            <a:ext cx="2031840" cy="13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MCj04247240000[1]"/>
          <p:cNvPicPr/>
          <p:nvPr/>
        </p:nvPicPr>
        <p:blipFill>
          <a:blip r:embed="rId5"/>
          <a:stretch/>
        </p:blipFill>
        <p:spPr>
          <a:xfrm>
            <a:off x="5486400" y="4419720"/>
            <a:ext cx="1832040" cy="190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7"/>
          <a:stretch/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539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898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67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neat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low 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heart is underneath the smiley fa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809880" y="2209680"/>
            <a:ext cx="1676520" cy="1524240"/>
          </a:xfrm>
          <a:prstGeom prst="smileyFace">
            <a:avLst>
              <a:gd name="adj" fmla="val 9282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809880" y="3886200"/>
            <a:ext cx="1657440" cy="1447920"/>
          </a:xfrm>
          <a:prstGeom prst="pie">
            <a:avLst/>
          </a:prstGeom>
          <a:solidFill>
            <a:srgbClr val="ff33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62120" y="4495680"/>
            <a:ext cx="2819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dentif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 what something i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MCPE01460_0000[1]"/>
          <p:cNvPicPr/>
          <p:nvPr/>
        </p:nvPicPr>
        <p:blipFill>
          <a:blip r:embed="rId1"/>
          <a:stretch/>
        </p:blipFill>
        <p:spPr>
          <a:xfrm>
            <a:off x="2819520" y="3048120"/>
            <a:ext cx="2790720" cy="34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t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son who tries to solve a mystery or figure out a proble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MCj02899610000[1]"/>
          <p:cNvPicPr/>
          <p:nvPr/>
        </p:nvPicPr>
        <p:blipFill>
          <a:blip r:embed="rId1"/>
          <a:stretch/>
        </p:blipFill>
        <p:spPr>
          <a:xfrm>
            <a:off x="5334120" y="3048120"/>
            <a:ext cx="30891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scina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hing that is very interest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 detective finds a clue, he may say that the clue is ver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ascina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MCPE07264_0000[1]"/>
          <p:cNvPicPr/>
          <p:nvPr/>
        </p:nvPicPr>
        <p:blipFill>
          <a:blip r:embed="rId1"/>
          <a:stretch/>
        </p:blipFill>
        <p:spPr>
          <a:xfrm>
            <a:off x="5486400" y="2590920"/>
            <a:ext cx="3200400" cy="257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hing that is slippery and gooey when you touch 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8" descr="200px-Slime_Time_L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20040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drool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lantern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hiver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nuggl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roo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t saliva run from the mouth like a baby sometimes do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gen_mout.gif (4416 bytes)"/>
          <p:cNvPicPr/>
          <p:nvPr/>
        </p:nvPicPr>
        <p:blipFill>
          <a:blip r:embed="rId1"/>
          <a:stretch/>
        </p:blipFill>
        <p:spPr>
          <a:xfrm>
            <a:off x="3809880" y="3200400"/>
            <a:ext cx="3276720" cy="3208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13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nter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able lamps with coverings around them to protect them from wind and ra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MCj03825580000[1]"/>
          <p:cNvPicPr/>
          <p:nvPr/>
        </p:nvPicPr>
        <p:blipFill>
          <a:blip r:embed="rId1"/>
          <a:stretch/>
        </p:blipFill>
        <p:spPr>
          <a:xfrm>
            <a:off x="3200400" y="3733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2343080000[1]"/>
          <p:cNvPicPr/>
          <p:nvPr/>
        </p:nvPicPr>
        <p:blipFill>
          <a:blip r:embed="rId2"/>
          <a:stretch/>
        </p:blipFill>
        <p:spPr>
          <a:xfrm>
            <a:off x="1066680" y="3276720"/>
            <a:ext cx="2205000" cy="227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4104950000[1]"/>
          <p:cNvPicPr/>
          <p:nvPr/>
        </p:nvPicPr>
        <p:blipFill>
          <a:blip r:embed="rId3"/>
          <a:stretch/>
        </p:blipFill>
        <p:spPr>
          <a:xfrm>
            <a:off x="5943600" y="2971800"/>
            <a:ext cx="2357280" cy="244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iver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hake with cold, fear, or excite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MCPE07665_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284004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MacOS" descr=""/>
          <p:cNvPicPr/>
          <p:nvPr/>
        </p:nvPicPr>
        <p:blipFill>
          <a:blip r:embed="rId2"/>
          <a:stretch/>
        </p:blipFill>
        <p:spPr>
          <a:xfrm>
            <a:off x="82296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138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885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25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ugg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ie closely and comfortably together; cudd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Click for Snuggle 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124080"/>
            <a:ext cx="3448080" cy="32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azing 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alax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ranquil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ildlif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underneath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identif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detectiv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fascinating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lim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lax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huge group of stars.  Earth and the sun are part of a big galax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MCj00831910000[1]"/>
          <p:cNvPicPr/>
          <p:nvPr/>
        </p:nvPicPr>
        <p:blipFill>
          <a:blip r:embed="rId1"/>
          <a:stretch/>
        </p:blipFill>
        <p:spPr>
          <a:xfrm>
            <a:off x="5029200" y="3124080"/>
            <a:ext cx="3429000" cy="3364200"/>
          </a:xfrm>
          <a:prstGeom prst="rect">
            <a:avLst/>
          </a:prstGeom>
          <a:ln w="0">
            <a:noFill/>
          </a:ln>
        </p:spPr>
      </p:pic>
      <p:pic>
        <p:nvPicPr>
          <p:cNvPr id="122" name="MacOS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545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qu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you feel when you are very calm and peacefu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MCj04246380000[1]"/>
          <p:cNvPicPr/>
          <p:nvPr/>
        </p:nvPicPr>
        <p:blipFill>
          <a:blip r:embed="rId1"/>
          <a:stretch/>
        </p:blipFill>
        <p:spPr>
          <a:xfrm>
            <a:off x="990720" y="3962520"/>
            <a:ext cx="1819080" cy="172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Cj01495340000[1]"/>
          <p:cNvPicPr/>
          <p:nvPr/>
        </p:nvPicPr>
        <p:blipFill>
          <a:blip r:embed="rId2"/>
          <a:stretch/>
        </p:blipFill>
        <p:spPr>
          <a:xfrm>
            <a:off x="4876920" y="3429000"/>
            <a:ext cx="3186000" cy="2147760"/>
          </a:xfrm>
          <a:prstGeom prst="rect">
            <a:avLst/>
          </a:prstGeom>
          <a:ln w="0">
            <a:noFill/>
          </a:ln>
        </p:spPr>
      </p:pic>
      <p:pic>
        <p:nvPicPr>
          <p:cNvPr id="127" name="MacOS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4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928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3:46:42Z</dcterms:created>
  <dc:creator> </dc:creator>
  <dc:description/>
  <dc:language>en-US</dc:language>
  <cp:lastModifiedBy>Laura McDow</cp:lastModifiedBy>
  <dcterms:modified xsi:type="dcterms:W3CDTF">2010-08-26T00:22:25Z</dcterms:modified>
  <cp:revision>3</cp:revision>
  <dc:subject/>
  <dc:title>Henry and Mudge  and the Starry Night</dc:title>
</cp:coreProperties>
</file>